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ADC0-57C1-4E51-802B-4B05D41B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FB06-BDCE-48DA-89BB-0278B455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B437-3EDF-4B5B-8138-CB51670A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C894-AD95-4DB9-B0EB-078A8FDB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4FA79-115E-4B60-B743-130A0768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83BFE-2CDF-43CD-A949-003AC6E3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CB1E7-445C-42C1-9DE4-47DEBA0D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CABA3-B226-4E13-B120-41E0E622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A9DDC-A7FF-48CF-8156-2AC5E3E1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3C16D-0937-4493-923C-3E2C29C9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D4738-3798-4526-AE21-F01D693D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6A75-9D6B-409D-BC8E-A7EB61D7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05040-DCC8-4BDE-9BA4-8255478D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0CDED-0E7D-4E1C-9080-EA9AE3EB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5F9C6-6F24-4701-8DCD-75AF1280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58D27-F2AF-46C5-9E63-7F311340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D1630-3FF1-479F-AA6E-3D5CE0E9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D357-33E2-465E-A595-ABECD435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8A18-0CEB-48CE-B6BA-807A934C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EF6F-F097-4E53-95E5-EFA5FCD9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DB58-ADF9-4CC1-B4F7-5ACAC393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DDCE-3669-40B1-831E-9A7D7DA3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8825-C681-4538-8234-E50C4D64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684A-8269-4864-86DD-6F52CD66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15E8-490F-4F02-A0D0-7897E4147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9CC5-4FED-4606-AA97-4A5BB85499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ort Story Uni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How did the short story originat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. . It began through word of mouth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rst to be written dow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,000 years ago the Egyptians wrote “Tales of the Magicians” on . .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pyrus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ter Greeks and Romans wrote epic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ntury b.c. = Aesop’s Fab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pite all of this history, the short story did not become a serious literary genre until  . .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. . the 19th centur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3059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authors that popularized the short story: Edgar Allen Poe, Guy de Maupassant, and Anton Checkov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rn Short Story- more detailed, more realistic in plot, actually shows characters’ actions instead of just saying what they do, and creates a strong, vivid, moo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red to novels: most contain setting, theme, plot, point of view, and characters. BUT have a tighter focus, and are structured to illuminate one particular event, revelation, development, or effec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13:36:45Z</dcterms:created>
  <dc:creator>generic</dc:creator>
  <dc:description/>
  <dc:language>en-US</dc:language>
  <cp:lastModifiedBy>generic</cp:lastModifiedBy>
  <dcterms:modified xsi:type="dcterms:W3CDTF">2009-09-04T13:46:47Z</dcterms:modified>
  <cp:revision>2</cp:revision>
  <dc:subject/>
  <dc:title>Short Story Unit</dc:title>
</cp:coreProperties>
</file>